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D2CF-9C32-47BC-9C50-918DCB513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B5C5-F13D-4C4D-8EE8-5C3170A48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18B8-9637-4D32-926D-0286F3FF1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1402-4DAC-42DE-9826-DAEEE7F0A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18DA-1D5C-4B9B-8C8B-C2C1756BC9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B3CC-6326-422F-B9C4-6E2E61F36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AB90-BE64-4AF0-8B82-F6B271B35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048B-73D2-49C1-898B-BB6DAD46D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E499-37F1-45BB-A724-99742ADA0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3598-F867-44F2-8A7C-E532A0FBA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761D-34D2-456F-923B-38B71DE3C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F10E-4CF5-40CB-B74B-444262874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609840" cy="304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801C-A122-4FE0-8DEF-E1D85E6AC7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0"/>
            <a:ext cx="6096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Corso-Laboratorio di Educazione Ambientale</a:t>
            </a:r>
            <a:br>
              <a:rPr sz="1800"/>
            </a:b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L’Educazione Ambientale per lo Sviluppo Sosten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Francesco Apruzzese- ARPA Emilia Roma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0"/>
            <a:ext cx="2666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9900"/>
                </a:solidFill>
                <a:latin typeface="Arial"/>
              </a:rPr>
              <a:t>Gruppo di Lavoro C.I.F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7920" y="64080"/>
            <a:ext cx="6914880" cy="53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c9900"/>
                </a:solidFill>
                <a:latin typeface="Arial"/>
              </a:rPr>
              <a:t>CORSO-LABORATORI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c9900"/>
                </a:solidFill>
                <a:latin typeface="Arial"/>
              </a:rPr>
              <a:t>DI EDUCAZIONE AMBI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cc9900"/>
                </a:solidFill>
                <a:latin typeface="Arial"/>
              </a:rPr>
              <a:t>MODU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c9900"/>
                </a:solidFill>
                <a:latin typeface="Arial"/>
              </a:rPr>
              <a:t>EDUCAZIONE IN TEMA D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c9900"/>
                </a:solidFill>
                <a:latin typeface="Arial"/>
              </a:rPr>
              <a:t>AMBIENTE E  SALU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oden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9 e 30 NOVEMBRE 2005 ( da conferm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r. Francesco Apruzz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5257800"/>
          <a:ext cx="1081080" cy="66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257800"/>
                    <a:ext cx="10810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676520" y="5029200"/>
            <a:ext cx="6408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GENZIA REGIONALE per la PREVEN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 l’AMBIENTE dell’EMILIA ROMAG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79840" y="3268800"/>
            <a:ext cx="184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47120"/>
            <a:ext cx="9144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9900"/>
                </a:solidFill>
                <a:latin typeface="Arial"/>
              </a:rPr>
              <a:t>OBIETTIVI del 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disporre un documento condiviso su educazione, ambiente e  sa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parare una bozza di protocollo di accordo fra sanita e ambiente  da utilizzare nei contesti regionali di riferimen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aborare e condividere una bozza di programma formativo sui temi discus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re, nell’ambito del tema ambiente / salute  ipotesi di stage formativi presso le agenzie, destinati a soggetti esterni al sistema agenzi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87600"/>
            <a:ext cx="91440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PARTECIPANTI PREVI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TI DEL SISTEMA AG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TI DI EA DEI NODI DI ARPA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E INFEA REGIONE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ORI PROVINCIALI  INF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  LEA COMUNI CAPOLUOGO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UPPO REGIONALE SU EDUCAZIONE AMB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A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4000" y="573120"/>
            <a:ext cx="90900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9900"/>
                </a:solidFill>
                <a:latin typeface="Arial"/>
              </a:rPr>
              <a:t>PROGRAMMA PRELIMIN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1° Gior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e 14- 17 Presentazioni tematiche di esperti AR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tema di Ambiente e Salu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quinamento atmosferico e sal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r.ssa Maria Elen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amb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M e sal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r. Stefan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Z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ima e sal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r.ssa Fabiana Sco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ffico e sal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r. Paolo Lauriola, dr.ssa Veronica Giovana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rmovalorizzatori e sal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r.Andre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an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e 17- 19.30 Gruppo di lavoro CIFE (solo gruppo CI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88960"/>
            <a:ext cx="9144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2° Gior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e 9 – 11.30         presentazione di progetti educativi in tema di ambiente e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etti di ARPA ER e del Sistema Ag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etti della rete regionale INFEA della Regione 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etti del sistema sanit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e 11.30 – 13.30   interventi  d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ponsabile CIFE/A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ponsabile INFEA Regionale 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ponsabile IRRE ER per l’educazione ambi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ferente Assessorato Regionale ER alla  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ponsabile ARPA ER per educazione ambi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ferente gruppo regionale ER su ambiente educazione e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e 15 – 17 comunicazioni libere e conclusioni (opzion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4:39:44Z</dcterms:created>
  <dc:creator>francesco saverio apruzzese</dc:creator>
  <dc:description/>
  <dc:language>en-US</dc:language>
  <cp:lastModifiedBy> </cp:lastModifiedBy>
  <dcterms:modified xsi:type="dcterms:W3CDTF">2005-09-20T16:12:50Z</dcterms:modified>
  <cp:revision>15</cp:revision>
  <dc:subject/>
  <dc:title>Diapositiva 1</dc:title>
</cp:coreProperties>
</file>