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B272-1E64-486B-99FA-72B4E7CEE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7A9C-3AF6-4A7B-BED7-1F73B8A2D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E705-9667-4F4C-8FB2-E4B850FFA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02BC-D90F-4258-8F42-27EC1A3C4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BB74-1990-48BA-B971-03F2FF2B3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898A-F1EC-4DA5-ABCB-5141E1013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3D9D-E6CD-4BE7-8CE3-30752FA0C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C03A-04F4-46E2-8B2C-8AA3922F0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6F05-0131-4017-BC94-59279A189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A361-015E-4D30-BA33-6B8558760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4241-9C38-460F-911D-BF81C706C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5E21-C3A3-4B0F-B8A6-DFD629687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609840" cy="304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1CC1-6E65-4D32-8C3A-DAC310713B7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20040"/>
            <a:ext cx="8381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Renata Pelosini, Christian Ronchi,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Giovanni Vercellone – ARPA Piem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66680" y="0"/>
            <a:ext cx="6096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Corso-Laboratorio di Educazione Ambientale</a:t>
            </a:r>
            <a:br>
              <a:rPr sz="1800"/>
            </a:b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L’Educazione Ambientale per lo Sviluppo Sosten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0"/>
            <a:ext cx="266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9900"/>
                </a:solidFill>
                <a:latin typeface="Arial"/>
              </a:rPr>
              <a:t>Gruppo di Lavoro C.I.F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CORSO-LABORATORIO DI EDUCAZIONE AMBIENTA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MODULO: I cambiamenti climatici</a:t>
            </a: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Renata Pelosini, Christian Ronchi, Gianni Vercell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Arpa Piemo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76C0-BB7D-42ED-A91B-027B2E7B39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-571680"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9900"/>
                </a:solidFill>
                <a:latin typeface="Arial"/>
              </a:rPr>
              <a:t>Motivazioni e contenuti.</a:t>
            </a:r>
            <a:endParaRPr b="1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.1 Perché parlare di cambiamenti climati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Pianeta è un “organismo vivente”. I cambiamenti climatici altro non sono che i 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sintomi</a:t>
            </a:r>
            <a:r>
              <a:rPr b="1" i="1" lang="it-IT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 suo stato di salute. L’uomo , come un medico, cerca di interpretare questi sintomi e organizzarli in una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dignosi differenzial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 modo da porre le basi per una eventuale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terapi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6553080" cy="32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9900"/>
                </a:solidFill>
                <a:latin typeface="Arial"/>
              </a:rPr>
              <a:t>La “febbre” del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4D9B-59EA-48F6-9FF7-A76C75ADC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977760"/>
            <a:ext cx="4038840" cy="3119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cc9900"/>
                </a:solidFill>
                <a:latin typeface="Arial"/>
              </a:rPr>
              <a:t>…</a:t>
            </a:r>
            <a:r>
              <a:rPr b="1" i="1" lang="it-IT" sz="2500" spc="-1" strike="noStrike">
                <a:solidFill>
                  <a:srgbClr val="cc9900"/>
                </a:solidFill>
                <a:latin typeface="Arial"/>
              </a:rPr>
              <a:t>alcuni sintomi…</a:t>
            </a:r>
            <a:r>
              <a:rPr b="1" i="1" lang="it-IT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492720" cy="367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495680" y="4114800"/>
            <a:ext cx="3886200" cy="222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48769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llasso degli Ice shelves antartici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5715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minuzione dei ghiacci marini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6094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umento della temperatura glob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5816-650C-4A39-BD6C-C1DFF17F1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54100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90520" y="3130560"/>
            <a:ext cx="466236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295280"/>
            <a:ext cx="2895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umento delle aree di fusione per la neve in Groenla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45720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ritir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ghiacciai alp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0F00-255A-4978-8AE0-B43C15D7E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69872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…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alcuni sintomi: la colonizzazione del des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686120" cy="472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257800" y="2819520"/>
            <a:ext cx="3492360" cy="28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181480" y="2819520"/>
            <a:ext cx="3492720" cy="2832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181480" y="2819520"/>
            <a:ext cx="3492720" cy="283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5181480" y="2819520"/>
            <a:ext cx="3492720" cy="283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3492720" cy="283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81480" y="1219320"/>
            <a:ext cx="3733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che l’uomo contribuisce al cambiamento del territo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 “One Planet, Many People - Atlas of Our Changing Environ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57913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LAS VE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ECD0-FE64-4C8E-95E9-0B0A31C5DE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00000"/>
                </a:solidFill>
                <a:latin typeface="Arial"/>
              </a:rPr>
              <a:t>1.2 La struttura del Cor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990720"/>
            <a:ext cx="861048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rso si articola in 3 fasi sequenzi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1° Gior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zione del 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“paziente”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l sistema climat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attraverso la conoscenza della sua stori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oluzione del significato di “clima” dal medioevo ad ogg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 la sua “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siologia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ccanismi di For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“sintomi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servati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cambiamenti climat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 degli strumenti di indagin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elli climatolog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2° Gior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“Diagnosi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cing antropico) e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“terapia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l Protocollo di Kyo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724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1.3 Gli strumenti del Cor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5257800"/>
            <a:ext cx="8610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terapia è effic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mulazione interattiva dei meccanismi flessibili proposti dal Protocollo di Ky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2F65-B7CF-4136-A15D-6767BA6904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c9900"/>
                </a:solidFill>
                <a:latin typeface="Arial"/>
              </a:rPr>
              <a:t>2. Programma del Corso</a:t>
            </a: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.1 SEDE DI SVOLGIMENTO: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Arpa Piem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.2 DATA PROPOSTA: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10/11 maggi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.3 PARTECIPANTI :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referenti CIFE del sistema APAT, ARPA, APPA, funzionari Regione Piemonte che operano nel settore INF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N° PARTECIPANTI: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circa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8F77-BDBB-4839-8E7A-29EDD940C9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12:27:43Z</dcterms:created>
  <dc:creator> </dc:creator>
  <dc:description/>
  <dc:language>en-US</dc:language>
  <cp:lastModifiedBy> </cp:lastModifiedBy>
  <dcterms:modified xsi:type="dcterms:W3CDTF">2005-09-20T15:58:52Z</dcterms:modified>
  <cp:revision>22</cp:revision>
  <dc:subject/>
  <dc:title>TITOLO DELLA PRESENTAZIONE</dc:title>
</cp:coreProperties>
</file>