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733-709F-4806-9736-BC6BE229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B31-2D57-43B6-A684-4ABB1822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77D-0A83-4B2B-BEA1-B86FE47C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B11-A366-49F7-AFF6-0CF2E459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506-B8E9-4B62-8AE7-F7A7C96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B1B-0E7D-4C7A-B576-DA86E8D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2E1-6DF1-41DB-BF46-E669DD7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2B-9093-4A4F-B737-AD215C6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B2A-2964-4BE4-A45A-10F556B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C74-49F5-4A66-8D85-5B32005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D2A-D94F-4B11-B9FA-EB372C8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EF5-8E42-49C9-9F38-A695BC6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A9B-35E0-4DAF-A4A0-2FB7C042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8T09:19:05Z</dcterms:modified>
  <cp:revision>5</cp:revision>
  <dc:subject/>
  <dc:title>Diapositiva 1</dc:title>
</cp:coreProperties>
</file>