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198-1FC0-4487-9B33-85DD5E13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20C-F8ED-49D0-A082-7FEE03BC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967B-2E83-4385-BA31-D9CBE1C1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AF2-186E-4AE1-9E2E-E5D9E01D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3FD5-5B56-498D-A20D-70129137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60C-0668-4B0A-AE40-FA17E987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8F7-3A17-4646-91BE-1EF22F94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000-36B7-4D1E-BB6E-EC623386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45E-24A8-40CF-B45C-CF86574E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F42-D250-4B20-9EB6-3743AA24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986-374D-45EF-8418-D103D257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73B6-02D2-45DB-AE2E-E0DABA0B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5463-BE9A-487B-B4DF-83317E41B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5:38:04Z</dcterms:created>
  <dc:creator>***</dc:creator>
  <dc:description/>
  <dc:language>en-US</dc:language>
  <cp:lastModifiedBy>***</cp:lastModifiedBy>
  <dcterms:modified xsi:type="dcterms:W3CDTF">2005-10-27T16:40:57Z</dcterms:modified>
  <cp:revision>5</cp:revision>
  <dc:subject/>
  <dc:title>Diapositiva 1</dc:title>
</cp:coreProperties>
</file>