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18AC-535B-4193-B775-B029D775F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E11B-E471-43B4-B6F2-FCFFA684D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1B45-1C58-4C4F-B609-85F93AEA9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E499-2BF2-4DA7-B774-C67409192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E7DA-4C0D-463F-9866-1F7B37272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BAAF-B6F1-4C81-A4C2-6AA6AA426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B75E-0997-43CC-BEE8-9C8822437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A9D0-07BF-4723-B166-BB2FD952F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4D0B-FF57-4B2D-8ACF-E02D4ACCC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835F-8825-4323-967F-ABFD23FA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78CE-23E6-4D7E-963F-CB1DC19F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D824-C4FA-40A8-983E-E2802E8D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532E4-555F-4C4F-9DA2-2EB59B008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7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7T15:38:04Z</dcterms:created>
  <dc:creator>***</dc:creator>
  <dc:description/>
  <dc:language>en-US</dc:language>
  <cp:lastModifiedBy>***</cp:lastModifiedBy>
  <dcterms:modified xsi:type="dcterms:W3CDTF">2005-10-27T16:40:57Z</dcterms:modified>
  <cp:revision>5</cp:revision>
  <dc:subject/>
  <dc:title>Diapositiva 1</dc:title>
</cp:coreProperties>
</file>