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9B48-6215-4905-83AB-DF47B552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7169-5066-48BE-8A71-18051691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6FB4-E251-41D6-BA7B-1C0B8F71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A0D-31A1-4C0D-8E03-6A212670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AAE-E583-46B1-BD34-9EF8962D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607-C12A-49D3-B0D0-B2CD8C51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FA94-89FA-4B4F-BFB6-2B431ECD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C2F1-B871-4CE1-A405-92A294CC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011-B235-4F40-BFEA-44FE774E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3A28-5F23-4F5E-8B8D-61E7CDA5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DF54-4CEC-4308-AC6A-F3601DF6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2FE8-ED6A-4C45-9433-C262D7DE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8005-D5DE-436A-B661-13D1C5AC2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5:38:04Z</dcterms:created>
  <dc:creator>***</dc:creator>
  <dc:description/>
  <dc:language>en-US</dc:language>
  <cp:lastModifiedBy>***</cp:lastModifiedBy>
  <dcterms:modified xsi:type="dcterms:W3CDTF">2005-10-27T17:09:07Z</dcterms:modified>
  <cp:revision>3</cp:revision>
  <dc:subject/>
  <dc:title>Diapositiva 1</dc:title>
</cp:coreProperties>
</file>