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7F7-548E-45B9-B069-8CBC9802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8C1-F890-4B86-88C1-D03D3126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825-0240-4E4D-9135-39811C0B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D56-34F9-478A-B9E6-BEE3545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C20-FC81-4664-83CB-1F32A084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A6C-EEFE-44A7-BD6C-13EFDD65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8AF-12FC-4AFF-82A4-17F691D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E57-ED14-4B24-B761-8185D58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5E4-49AA-4303-A5AD-C09AF0FD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320-3451-4EF0-B01A-1F81642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808-5710-4266-B552-60B641B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E73-3925-4DE7-80D9-857F305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8F0-96A1-4493-BCEE-7E3A969D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7:09:07Z</dcterms:modified>
  <cp:revision>3</cp:revision>
  <dc:subject/>
  <dc:title>Diapositiva 1</dc:title>
</cp:coreProperties>
</file>