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AF5A-820E-41D8-BEB3-966549C16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F9DD-3DAE-433C-A577-87C3D93EC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A698-707C-4203-AB0F-974161F5F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5556-6F68-4BFB-BEAD-4FB535615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D8C7-F67D-4F62-BC3F-10F18702A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CC40-D6E7-4B1C-B086-65CA4A93A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B7A9-5876-44ED-B596-41B47710B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B2A8-95B6-4F94-801D-EF8D95BD7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9DA1-9469-4FC1-BE26-B005C654C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FB90-461C-4B40-AA15-A2234CAB5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1EB7-CBCD-4D20-B626-CBD495711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B5EA-224B-48F0-AE4B-BCA2B2176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ABE31-3AEE-4919-9501-B961EB988A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7T15:38:04Z</dcterms:created>
  <dc:creator>***</dc:creator>
  <dc:description/>
  <dc:language>en-US</dc:language>
  <cp:lastModifiedBy>***</cp:lastModifiedBy>
  <dcterms:modified xsi:type="dcterms:W3CDTF">2005-10-28T09:19:05Z</dcterms:modified>
  <cp:revision>5</cp:revision>
  <dc:subject/>
  <dc:title>Diapositiva 1</dc:title>
</cp:coreProperties>
</file>