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92E-BE6D-44EC-AD8D-01DBFC9D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A15-CD4C-49EF-835B-3928F3C9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BD5-CA59-4A72-976C-76506CC7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965-1C3D-4E3F-990D-08CF8478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309-EF48-466F-9DC6-42C6AD6E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F5B-29A1-47BA-811A-BDBCC4D2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81B-26FB-4AE5-BDEF-034851FD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8EC-82B9-4370-92F1-4411B2D7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720-60EF-4015-AE26-4C6140F1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934-F74F-4009-A47E-EE5B7D35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120-9CEA-467E-A7D8-19725A33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78C-F6BC-45D7-9C8A-BA1F386D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763C-A707-4970-B9AC-4C15CE741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7T17:09:07Z</dcterms:modified>
  <cp:revision>3</cp:revision>
  <dc:subject/>
  <dc:title>Diapositiva 1</dc:title>
</cp:coreProperties>
</file>