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DA5-BEA1-487A-A584-A1836326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F98-9344-4E0D-8FF2-3AE56D6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4576-AE26-40FB-88DA-C369D2EF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D76-32F5-4320-9FD6-F2A02473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24B-9CCF-40C0-8C3E-A3BA531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336-1AC2-4EC9-8F9E-785A614E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4DA-A0BA-40AD-8EAF-6F2399CB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EEF-5D07-4C4B-A76C-750625D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77F-F18F-44FE-8FCF-33F12F45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8F3-E028-468B-A5C7-75B29BF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AF3-BE81-4601-8056-D4639E3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F59-E01D-42A8-9E12-DC41467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5D60-CB1A-4FC0-9BD3-3CCF53DB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7T16:40:57Z</dcterms:modified>
  <cp:revision>5</cp:revision>
  <dc:subject/>
  <dc:title>Diapositiva 1</dc:title>
</cp:coreProperties>
</file>